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566-54D3-4E60-BDD8-ED017833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115-BCF4-4C03-8E2F-E1488BA4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DC8B-FE4C-49FD-9C2E-ABFC076B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905-2534-44EB-AF79-92D159F0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5FD-920D-4911-A371-48C23DD3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7E7-EEBC-4B77-AD66-C79C99EE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96B-9E29-4442-985E-FA03A412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8B4-5197-4F3E-862C-C2A44634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810D-046D-4AD7-8DE0-2DCAFA38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709E-B871-4017-9E34-8C768723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A68-2994-435D-8CEB-CAD23A8C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1D3-9736-463F-B0F7-B8FC793B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AA8E-4691-42D9-B846-3F80BEE18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jpeg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wmf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image" Target="../media/image5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333360"/>
            <a:ext cx="867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ads, Shoulders, Knees and To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1700280"/>
            <a:ext cx="4951440" cy="39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beza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mbro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dillas y dedo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dillas y dedos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9"/>
          <a:stretch/>
        </p:blipFill>
        <p:spPr>
          <a:xfrm>
            <a:off x="1908000" y="1341360"/>
            <a:ext cx="1224000" cy="124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10"/>
          <a:stretch/>
        </p:blipFill>
        <p:spPr>
          <a:xfrm>
            <a:off x="6156360" y="2492280"/>
            <a:ext cx="752400" cy="1128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11"/>
          <a:stretch/>
        </p:blipFill>
        <p:spPr>
          <a:xfrm>
            <a:off x="755640" y="4149720"/>
            <a:ext cx="901800" cy="1128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2"/>
          <a:stretch/>
        </p:blipFill>
        <p:spPr>
          <a:xfrm>
            <a:off x="7164360" y="4149720"/>
            <a:ext cx="1224000" cy="857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8028000" y="573408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x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771640" y="907920"/>
            <a:ext cx="3961080" cy="481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 ojo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 oreja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 boca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 nariz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763640" y="907920"/>
            <a:ext cx="1297080" cy="863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6877080" y="1989000"/>
            <a:ext cx="863640" cy="1322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1476360" y="3573360"/>
            <a:ext cx="1589040" cy="722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6659640" y="4724280"/>
            <a:ext cx="11570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979640" y="1268280"/>
            <a:ext cx="4951440" cy="39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beza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mbro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dillas y dedo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odillas y dedos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1908000" y="909720"/>
            <a:ext cx="1224000" cy="1243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6156360" y="2060640"/>
            <a:ext cx="752400" cy="1128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755640" y="3645000"/>
            <a:ext cx="901800" cy="1128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7164360" y="4149720"/>
            <a:ext cx="12240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0:50:23Z</dcterms:created>
  <dc:creator>OEM Preinstalled User</dc:creator>
  <dc:description/>
  <dc:language>en-US</dc:language>
  <cp:lastModifiedBy>Pitchford</cp:lastModifiedBy>
  <dcterms:modified xsi:type="dcterms:W3CDTF">2006-09-19T14:45:50Z</dcterms:modified>
  <cp:revision>4</cp:revision>
  <dc:subject/>
  <dc:title>Slide 1</dc:title>
</cp:coreProperties>
</file>